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97700" cy="9244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382E-454F-40D6-B49A-E60297772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308C-2FBE-48F2-85C1-F5DEB67F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0565-D4F4-48E9-A8A4-5499E33AF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C056-7061-4FE9-8050-2805845E8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8927-BBCA-41D2-B39A-E3BA43EE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752A-34D3-451F-A435-57785F25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904E-801B-474B-BBEA-FE0B8856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BE29-CA8D-493E-A57F-8AED2CEC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A08B-39B9-4FF5-889B-81CF4F3C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0100-A872-4102-B169-22A151DB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AED7-BED0-4B46-8CFC-BB223C43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6904-517E-4860-A321-FD960FE7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14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E04B-496E-49EB-8D80-6656C3306863}" type="slidenum">
              <a:rPr b="0" lang="en-US" sz="1400" spc="-1" strike="noStrike">
                <a:solidFill>
                  <a:srgbClr val="000514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04920"/>
            <a:ext cx="7772400" cy="28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Developing a Plan to Transition to    Value-Based Purchasing for Physician     &amp; Other Professional Services (PVB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fining the Opportunit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35280" y="3282840"/>
            <a:ext cx="555624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Jeffrey Rich, M.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enter for Medicare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93680" y="5103720"/>
            <a:ext cx="323172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Listening Ses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cember 9, 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05920" y="6172200"/>
            <a:ext cx="5331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AFCF-0200-41D3-8333-F220AA9C3E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VBP Demonstrations and Pilo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9907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icare Health Support Pilo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are Management for High-Cost Beneficiaries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icare Healthcare Quality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Gainsharing Demonstr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cute Care Episode (ACE)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etter Quality Information for Medicare Beneficiaries (BQI) Pilo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lectronic Health Records (EHR)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ical Home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FF4E-053C-4B1D-BA33-2D34F6EC24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VBP Initiativ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762120"/>
            <a:ext cx="81536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spital Quality Initiative: Inpatient &amp; Outpatient Pay for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spital VBP Plan &amp; Report to Con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spital-Acquired Conditions &amp; Present on Admission Indicator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hysician Quality Reporting Initiati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hysician Resource Use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hysician &amp; Other Professional Services VBP Plan &amp; Report to Con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me Health Care Pay for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SRD Pay for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icaid V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4CE5-10F5-4DE7-95E2-CE0F7284E4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VBP Plan Goa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Improve Medicare beneficiary health outcomes and experience of care by using payment incentives and transparency to encourage higher quality, more efficient professional servi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FA88-9524-48CD-8822-330C2BB8A9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VBP Program Objectiv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83808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omote the practice of evidence-based medic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duce fragmentation and du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ncourage effective management of chronic disea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ccelerate the adoption of effective interoperable health information technolo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timulate investments in effective structural components or syste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isseminate transparent and useful inform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To empower consumers to make value-based health care choic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To encourage health professionals to improve the value of c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A6DC-D120-4008-BE22-6AC3152467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ersonal Experiences with VBP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3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3399"/>
                </a:solidFill>
                <a:latin typeface="Tahoma"/>
              </a:rPr>
              <a:t>Virginia Cardiac Surgery Quality Initiative (VCSQI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Voluntary consortium of 13 cardiac surgical practices and 17 hospitals providing open-heart surgery in the Commonwealth of Virgin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vened since 1996 to improve the quality of surgical care and contain costs by comparing data and exchanging inform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veloped a type of “accountable care organization” collaborating regionally to implement consensus-based QI projects and create payment mechanisms as a catalyst for chan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A44D-4106-413F-A1B8-D207FD22A2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ersonal Experiences with VBP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5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3399"/>
                </a:solidFill>
                <a:latin typeface="Tahoma"/>
              </a:rPr>
              <a:t>Virginia Cardiac Surgery Quality Initiative (VCSQI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elped design a proposed global pricing demonstration with CMS in 200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Bundled payme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Quality metric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hared saving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veloped and implemented P4P programs with Anthem Blue Cross and Blue Shield of Virginia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Quality-In-Sights: Hospital Incentive Program (Q-HIP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Quality Physician Performance Program (Q-P3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lign hospital and physician goals to foster collaborat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2008 Eisenberg Patient Safety-Quality Award from NQF-The Joint Commis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244A-3677-4356-977B-7EBE927E2F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Conclus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5000"/>
              </a:lnSpc>
              <a:spcBef>
                <a:spcPts val="349"/>
              </a:spcBef>
              <a:spcAft>
                <a:spcPts val="14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veloping this PVBP Plan provides an important opportunity to explore a wide range of options appropriate to the diversity of practice arrangements and settings of c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5000"/>
              </a:lnSpc>
              <a:spcBef>
                <a:spcPts val="349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Focusing on both longer term and short-term timeframes will enable immediate changes to be designed with longer-term objectives in min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5000"/>
              </a:lnSpc>
              <a:spcBef>
                <a:spcPts val="3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415B-3083-4A82-BC2A-F211B102CE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view of the Present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text for PVBP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MS goal and objectives for the PVBP Pl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ighlights of my own experience to illustrate the opportun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mportance of this eff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714E-CF9E-4ADD-8532-8C17E2F75B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CMS’ Quality Improvement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Roadmap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Vision: The right care for every person every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ake car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af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ffecti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ffici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atient-center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ime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quit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9B98-55D6-400C-B784-B48BE9D7F2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CMS’ Quality Improvement </a:t>
            </a:r>
            <a:br>
              <a:rPr sz="4000"/>
            </a:b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Roadmap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trateg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ork through partnership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asure quality and report comparative resul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Value-Based Purchasing (VBP): improve quality and avoid unnecessary co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ncourage adoption of effective health information technolo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omote innovation and the evidence base for effective use of technolo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3930-4C00-4A81-A32C-8FD66718E1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What Does VBP Mean to CMS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9250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ransforming Medicare from a passive payer to an active purchaser of higher quality, more efficient health ca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ools and initiatives for promoting better quality, while avoiding unnecessary co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ahoma"/>
              </a:rPr>
              <a:t>Tools: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 measurement, payment incentives, public reporting, conditions of participation, coverage policy, QIO progra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ahoma"/>
              </a:rPr>
              <a:t>Initiatives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:  pay for reporting, pay for performance, gainsharing, competiti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bidding, bundled payment, coverage decisions, direct provider suppor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69D4-503C-436A-9F7D-8ADC6BD516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Why VBP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9140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Improve Qua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Quality improvement opportun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95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ennberg’s Dartmouth Atlas on variation in c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95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cGlynn’s NEJM findings on lack of evidence-based c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95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OM’s Crossing the Quality Chasm finding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Avoid Unnecessary Co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edicare’s various fee-for-service fee schedules and prospective payment systems based on </a:t>
            </a:r>
            <a:r>
              <a:rPr b="1" i="1" lang="en-US" sz="2400" spc="-1" strike="noStrike">
                <a:solidFill>
                  <a:srgbClr val="003399"/>
                </a:solidFill>
                <a:latin typeface="Tahoma"/>
              </a:rPr>
              <a:t>resource consumption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and </a:t>
            </a:r>
            <a:r>
              <a:rPr b="1" i="1" lang="en-US" sz="2400" spc="-1" strike="noStrike">
                <a:solidFill>
                  <a:srgbClr val="003399"/>
                </a:solidFill>
                <a:latin typeface="Tahoma"/>
              </a:rPr>
              <a:t>quantity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of care, NOT </a:t>
            </a:r>
            <a:r>
              <a:rPr b="1" i="1" lang="en-US" sz="2400" spc="-1" strike="noStrike">
                <a:solidFill>
                  <a:srgbClr val="003399"/>
                </a:solidFill>
                <a:latin typeface="Tahoma"/>
              </a:rPr>
              <a:t>quality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or </a:t>
            </a:r>
            <a:r>
              <a:rPr b="1" i="1" lang="en-US" sz="2400" spc="-1" strike="noStrike">
                <a:solidFill>
                  <a:srgbClr val="003399"/>
                </a:solidFill>
                <a:latin typeface="Tahoma"/>
              </a:rPr>
              <a:t>unnecessary costs avoid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ayment systems’ incentives are not align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BE80-0B27-49E6-8DA0-D10151C397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Why VBP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Medicare Solvency and Beneficiary Imp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xpenditures up from $219 billion in 2000 to a projected $486 billion in 2009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art A Trust Fu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xcess of expenditures over tax income in 200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ojected to be depleted by 2019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art B Trust Fu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xpenditures increasing 11% per year over the last 6 yea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icare premiums, deductibles, and cost-sharing projected to consume 28% of the average beneficiary’s Social Security check in 201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E438-8BC4-46E8-9AEC-9E4C9EB0D6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-76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Support for VBP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esident’s Budg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FYs 2006-09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gressional Interest in P4P and Other VBP Tool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BIPA, MMA, DRA, TRHCA, MMSEA, MIPP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PAC Reports to Congr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4P recommendations on quality, efficiency, health information technology, and payment refor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OM Repor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4P recommendations in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To Err Is Human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Crossing the Quality Chas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Report,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Rewarding Provider Performance: Aligning Incentives in Medic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ivate Sect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ivate health pla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mployer coali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3A20-2485-43D2-8132-B02A5651F3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VBP Demonstrations and Pilo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emier Hospital Quality Incentive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hysician Group Practice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icare Care Management Performance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Nursing Home Value-Based Purchasing Demonstr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me Health Pay for Performance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D38A-B238-4DBE-A87F-C162951815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5:39:28Z</dcterms:created>
  <dc:creator>Tinabeth Burton</dc:creator>
  <dc:description/>
  <dc:language>en-US</dc:language>
  <cp:lastModifiedBy>CMS</cp:lastModifiedBy>
  <dcterms:modified xsi:type="dcterms:W3CDTF">2008-12-08T15:51:44Z</dcterms:modified>
  <cp:revision>47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98274953</vt:r8>
  </property>
  <property fmtid="{D5CDD505-2E9C-101B-9397-08002B2CF9AE}" pid="3" name="_AuthorEmail">
    <vt:lpwstr>Julianne.Howell@cms.hhs.gov</vt:lpwstr>
  </property>
  <property fmtid="{D5CDD505-2E9C-101B-9397-08002B2CF9AE}" pid="4" name="_AuthorEmailDisplayName">
    <vt:lpwstr>Howell, Julianne R. (CMS/CTR)</vt:lpwstr>
  </property>
  <property fmtid="{D5CDD505-2E9C-101B-9397-08002B2CF9AE}" pid="5" name="_EmailSubject">
    <vt:lpwstr>PVBP Slides renamed - one replacement</vt:lpwstr>
  </property>
  <property fmtid="{D5CDD505-2E9C-101B-9397-08002B2CF9AE}" pid="6" name="_NewReviewCycle">
    <vt:lpwstr/>
  </property>
  <property fmtid="{D5CDD505-2E9C-101B-9397-08002B2CF9AE}" pid="7" name="_PreviousAdHocReviewCycleID">
    <vt:r8>1541296745</vt:r8>
  </property>
</Properties>
</file>